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10BE-7321-4E1D-B502-F002126C5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BE1B-B1B6-4679-829F-4B83FE604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AA90-36BC-485A-B62E-ACF9898AD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2C46-2D9D-4EC3-9C33-4D35DB8BC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6C9AA-6F14-462A-88D2-B2953E78C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10899-4B80-45CA-A929-D75D84F50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6353F-0559-45E4-BD7C-1BC88D90C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06831-991F-4D62-AD69-6692178D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E4E4A-39BA-4163-8C62-CDAE7AEDC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A7995-A014-4F29-929D-B5EBB9172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16E55-AC87-43EC-8EFD-DEE467BB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5E15-BB15-438B-BBD2-BC7F713A8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23233-207A-4866-ADE9-E58EBF36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13CD6-4B56-4104-87CA-672BED1E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72DE8-5D04-4632-BEE7-51869805F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4B09F-E32A-498C-881B-A6F673C29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79E5C-3731-40E0-B0EB-0B150C651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B9EE9-E58A-47CB-8EC0-72E9A8C14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EB228-DA02-40F0-9876-6A0FCAD52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D49FC-01E0-4BA4-A3B3-EE35CEAD5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E8C33-4513-458C-A065-9B54C1D64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36993-A044-469B-A419-8D3F5EF20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AFF8-65AC-415B-A106-5BA3D8855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E01B7-FCB8-4E75-9913-F8377F49C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D5619-5032-47FA-89C8-D2DFE7E7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32C36-2FEE-4026-ABC6-504E860F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083D3-B63B-4A8B-A7BE-3377D5E9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7FC15-6CB3-4D51-8E80-31D460DCD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4C75F-8D32-4DA0-A6D2-3571080CA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4AD61-45E0-41EC-92D7-2936A7CD9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BC691-2B4B-41C8-9804-4968EECAF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68CA3-683D-43DD-8DD5-91038BB7F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C3E09-108E-44CA-BEA2-1D9459FB9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4D3D-A048-4281-BFFA-47E40386A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A2309-7F89-4314-B818-AE6F9081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7F547-F043-4BF5-B242-B6EFC0DE2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B33FD-421D-4C20-A49E-5504A8931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F7DE2-972D-4FE0-AE1A-D7A634D9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065B7-B923-4840-9087-77C3ED1B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2E5DF-8026-4869-B690-A70188C9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F070C-2608-4B2B-B135-81C4F6277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E194B-C992-4AC6-9592-D3DF91A8A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3DA9A-6A14-489F-9228-1D74EFFD3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5BE6-346D-4B31-B2D1-30A584D48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7EB5-BF23-4F73-8888-437752BA2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9E4A-C961-446B-AAC2-A45A49E1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6BD6-6702-410C-B865-DAA0E484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9851-F5B4-4684-9E7B-103AEEA0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owolny kształt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Dowolny kształt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4F408-F4A3-4C91-AA5F-1A3CACA55EF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upa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Dowolny kształt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Dowolny kształt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Dowolny kształt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Dowolny kształt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owolny kształt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Dowolny kształt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upa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Dowolny kształt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Dowolny kształt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Dowolny kształt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Dowolny kształt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7B849-8114-4EB4-923B-225033F7933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owolny kształt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wolny kształt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upa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Dowolny kształt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Dowolny kształt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Dowolny kształt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Dowolny kształt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01B38-56D7-4265-8A88-444737E000A4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rostokąt ze ściętym i zaokrąglonym rogiem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rójkąt prostokątny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wolny kształt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Dowolny kształt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DFF7B-B433-4B92-97D6-76B08EB9DAF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Zwój poziomy 5"/>
          <p:cNvSpPr/>
          <p:nvPr/>
        </p:nvSpPr>
        <p:spPr>
          <a:xfrm>
            <a:off x="609480" y="228600"/>
            <a:ext cx="3429000" cy="103356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Rectangle 2" descr=""/>
          <p:cNvPicPr/>
          <p:nvPr/>
        </p:nvPicPr>
        <p:blipFill>
          <a:blip r:embed="rId1"/>
          <a:stretch/>
        </p:blipFill>
        <p:spPr>
          <a:xfrm>
            <a:off x="-1530360" y="-6480"/>
            <a:ext cx="5559480" cy="129888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 rot="19987200">
            <a:off x="-1584000" y="279000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y Yohah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8" name="Picture 6" descr="http://www.cookplanetarium.us/pics/pluto.jpg"/>
          <p:cNvPicPr/>
          <p:nvPr/>
        </p:nvPicPr>
        <p:blipFill>
          <a:blip r:embed="rId2"/>
          <a:stretch/>
        </p:blipFill>
        <p:spPr>
          <a:xfrm>
            <a:off x="0" y="2438280"/>
            <a:ext cx="3733920" cy="33339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9" descr="http://www.nineplanets.org/signs/pluto2.gif"/>
          <p:cNvPicPr/>
          <p:nvPr/>
        </p:nvPicPr>
        <p:blipFill>
          <a:blip r:embed="rId3"/>
          <a:stretch/>
        </p:blipFill>
        <p:spPr>
          <a:xfrm>
            <a:off x="5486400" y="3276720"/>
            <a:ext cx="2666880" cy="25905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9" descr="Charon"/>
          <p:cNvPicPr/>
          <p:nvPr/>
        </p:nvPicPr>
        <p:blipFill>
          <a:blip r:embed="rId4"/>
          <a:stretch/>
        </p:blipFill>
        <p:spPr>
          <a:xfrm rot="12733800">
            <a:off x="4530600" y="2346480"/>
            <a:ext cx="1123920" cy="1123920"/>
          </a:xfrm>
          <a:prstGeom prst="rect">
            <a:avLst/>
          </a:prstGeom>
          <a:ln w="0">
            <a:noFill/>
          </a:ln>
        </p:spPr>
      </p:pic>
      <p:sp>
        <p:nvSpPr>
          <p:cNvPr id="201" name="Prostokąt 8"/>
          <p:cNvSpPr/>
          <p:nvPr/>
        </p:nvSpPr>
        <p:spPr>
          <a:xfrm flipV="1" rot="15705000">
            <a:off x="11072160" y="4448880"/>
            <a:ext cx="500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235 and -210 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rostokąt 9"/>
          <p:cNvSpPr/>
          <p:nvPr/>
        </p:nvSpPr>
        <p:spPr>
          <a:xfrm>
            <a:off x="3498840" y="2967120"/>
            <a:ext cx="1587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plor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st satellite names and dates that have explored your plane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clude a photo (with a caption that describes the mission) of at least one of the satellites that has visited your planet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3" name="Picture 6" descr="http://www.cookplanetarium.us/pics/pluto.jpg"/>
          <p:cNvPicPr/>
          <p:nvPr/>
        </p:nvPicPr>
        <p:blipFill>
          <a:blip r:embed="rId1"/>
          <a:stretch/>
        </p:blipFill>
        <p:spPr>
          <a:xfrm>
            <a:off x="2971800" y="3753000"/>
            <a:ext cx="3733920" cy="3333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ibliograph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http://w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w.nineplanets.org/pluto.htm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Rectangle 2"/>
          <p:cNvGrpSpPr/>
          <p:nvPr/>
        </p:nvGrpSpPr>
        <p:grpSpPr>
          <a:xfrm>
            <a:off x="-6480" y="-6480"/>
            <a:ext cx="9156960" cy="1384560"/>
            <a:chOff x="-6480" y="-6480"/>
            <a:chExt cx="9156960" cy="1384560"/>
          </a:xfrm>
        </p:grpSpPr>
        <p:pic>
          <p:nvPicPr>
            <p:cNvPr id="204" name="Rectangle 2" descr=""/>
            <p:cNvPicPr/>
            <p:nvPr/>
          </p:nvPicPr>
          <p:blipFill>
            <a:blip r:embed="rId1"/>
            <a:stretch/>
          </p:blipFill>
          <p:spPr>
            <a:xfrm>
              <a:off x="-6480" y="-6480"/>
              <a:ext cx="9156960" cy="13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0" y="0"/>
              <a:ext cx="91440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4fceff"/>
                  </a:solidFill>
                  <a:latin typeface="Calibri"/>
                </a:rPr>
                <a:t>history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Rectangle 3"/>
          <p:cNvGrpSpPr/>
          <p:nvPr/>
        </p:nvGrpSpPr>
        <p:grpSpPr>
          <a:xfrm>
            <a:off x="-6480" y="1365120"/>
            <a:ext cx="9156960" cy="5499360"/>
            <a:chOff x="-6480" y="1365120"/>
            <a:chExt cx="9156960" cy="5499360"/>
          </a:xfrm>
        </p:grpSpPr>
        <p:pic>
          <p:nvPicPr>
            <p:cNvPr id="207" name="Rectangle 3" descr=""/>
            <p:cNvPicPr/>
            <p:nvPr/>
          </p:nvPicPr>
          <p:blipFill>
            <a:blip r:embed="rId2"/>
            <a:stretch/>
          </p:blipFill>
          <p:spPr>
            <a:xfrm>
              <a:off x="-6480" y="1365120"/>
              <a:ext cx="9156960" cy="549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0" y="1371600"/>
              <a:ext cx="914400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649"/>
                </a:spcBef>
                <a:buClr>
                  <a:srgbClr val="0bd0d9"/>
                </a:buClr>
                <a:buSzPct val="9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b0f0"/>
                  </a:solidFill>
                  <a:latin typeface="Calibri"/>
                </a:rPr>
                <a:t>Who discovered your planet?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49"/>
                </a:spcBef>
                <a:buClr>
                  <a:srgbClr val="0bd0d9"/>
                </a:buClr>
                <a:buSzPct val="9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b0f0"/>
                  </a:solidFill>
                  <a:latin typeface="Calibri"/>
                </a:rPr>
                <a:t>Describe how the planet got its name.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49"/>
                </a:spcBef>
                <a:buClr>
                  <a:srgbClr val="0bd0d9"/>
                </a:buClr>
                <a:buSzPct val="9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b0f0"/>
                  </a:solidFill>
                  <a:latin typeface="Calibri"/>
                </a:rPr>
                <a:t>Place a photo (with a caption) of the planet symbol and if possible, the discoverer as well.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Gwiazda 4-ramienna 7"/>
          <p:cNvSpPr/>
          <p:nvPr/>
        </p:nvSpPr>
        <p:spPr>
          <a:xfrm>
            <a:off x="3505320" y="30492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Gwiazda 4-ramienna 8"/>
          <p:cNvSpPr/>
          <p:nvPr/>
        </p:nvSpPr>
        <p:spPr>
          <a:xfrm>
            <a:off x="5257800" y="0"/>
            <a:ext cx="914400" cy="914400"/>
          </a:xfrm>
          <a:custGeom>
            <a:avLst/>
            <a:gdLst>
              <a:gd name="textAreaLeft" fmla="*/ 361440 w 914400"/>
              <a:gd name="textAreaRight" fmla="*/ 552960 w 914400"/>
              <a:gd name="textAreaTop" fmla="*/ 361440 h 914400"/>
              <a:gd name="textAreaBottom" fmla="*/ 552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38" y="8538"/>
                </a:lnTo>
                <a:lnTo>
                  <a:pt x="10800" y="0"/>
                </a:lnTo>
                <a:lnTo>
                  <a:pt x="13062" y="8538"/>
                </a:lnTo>
                <a:lnTo>
                  <a:pt x="21600" y="10800"/>
                </a:lnTo>
                <a:lnTo>
                  <a:pt x="13062" y="13062"/>
                </a:lnTo>
                <a:lnTo>
                  <a:pt x="10800" y="21600"/>
                </a:lnTo>
                <a:lnTo>
                  <a:pt x="8538" y="1306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bd0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Rectangle 2"/>
          <p:cNvGrpSpPr/>
          <p:nvPr/>
        </p:nvGrpSpPr>
        <p:grpSpPr>
          <a:xfrm>
            <a:off x="-6480" y="-6480"/>
            <a:ext cx="9156960" cy="1616040"/>
            <a:chOff x="-6480" y="-6480"/>
            <a:chExt cx="9156960" cy="1616040"/>
          </a:xfrm>
        </p:grpSpPr>
        <p:pic>
          <p:nvPicPr>
            <p:cNvPr id="212" name="Rectangle 2" descr=""/>
            <p:cNvPicPr/>
            <p:nvPr/>
          </p:nvPicPr>
          <p:blipFill>
            <a:blip r:embed="rId1"/>
            <a:stretch/>
          </p:blipFill>
          <p:spPr>
            <a:xfrm>
              <a:off x="-6480" y="-6480"/>
              <a:ext cx="9156960" cy="16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0" y="0"/>
              <a:ext cx="91440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ffffff"/>
                  </a:solidFill>
                  <a:latin typeface="Calibri"/>
                </a:rPr>
                <a:t>Solar System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Rectangle 3"/>
          <p:cNvGrpSpPr/>
          <p:nvPr/>
        </p:nvGrpSpPr>
        <p:grpSpPr>
          <a:xfrm>
            <a:off x="-6480" y="1596960"/>
            <a:ext cx="9156960" cy="5267520"/>
            <a:chOff x="-6480" y="1596960"/>
            <a:chExt cx="9156960" cy="5267520"/>
          </a:xfrm>
        </p:grpSpPr>
        <p:pic>
          <p:nvPicPr>
            <p:cNvPr id="215" name="Rectangle 3" descr=""/>
            <p:cNvPicPr/>
            <p:nvPr/>
          </p:nvPicPr>
          <p:blipFill>
            <a:blip r:embed="rId2"/>
            <a:stretch/>
          </p:blipFill>
          <p:spPr>
            <a:xfrm>
              <a:off x="-6480" y="1596960"/>
              <a:ext cx="9156960" cy="526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0" y="1600200"/>
              <a:ext cx="9144000" cy="525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649"/>
                </a:spcBef>
                <a:buClr>
                  <a:srgbClr val="0bd0d9"/>
                </a:buClr>
                <a:buSzPct val="9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b0f0"/>
                  </a:solidFill>
                  <a:latin typeface="Calibri"/>
                </a:rPr>
                <a:t>Order from the sun.9 Planet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49"/>
                </a:spcBef>
                <a:buClr>
                  <a:srgbClr val="0bd0d9"/>
                </a:buClr>
                <a:buSzPct val="9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b0f0"/>
                  </a:solidFill>
                  <a:latin typeface="Calibri"/>
                </a:rPr>
                <a:t>Distance from the sun in AU and in km:39.5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49"/>
                </a:spcBef>
                <a:buClr>
                  <a:srgbClr val="0bd0d9"/>
                </a:buClr>
                <a:buSzPct val="9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b0f0"/>
                  </a:solidFill>
                  <a:latin typeface="Calibri"/>
                </a:rPr>
                <a:t>Orbital period (how long is one trip around the sun?)5,913,520,000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49"/>
                </a:spcBef>
                <a:buClr>
                  <a:srgbClr val="0bd0d9"/>
                </a:buClr>
                <a:buSzPct val="9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b0f0"/>
                  </a:solidFill>
                  <a:latin typeface="Calibri"/>
                </a:rPr>
                <a:t>Rotation (length of one day).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49"/>
                </a:spcBef>
                <a:buClr>
                  <a:srgbClr val="0bd0d9"/>
                </a:buClr>
                <a:buSzPct val="9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b0f0"/>
                  </a:solidFill>
                  <a:latin typeface="Calibri"/>
                </a:rPr>
                <a:t>Place an photo on this slide that shows where your planet is located in relative to other planets.</a:t>
              </a:r>
              <a:r>
                <a:rPr b="0" lang="pl-PL" sz="2600" spc="-1" strike="noStrike">
                  <a:solidFill>
                    <a:srgbClr val="000000"/>
                  </a:solidFill>
                  <a:latin typeface="Calibri"/>
                </a:rPr>
                <a:t> Pluto and 2003UB313 (Eris)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Gwiazda 5-ramienna 3"/>
          <p:cNvSpPr/>
          <p:nvPr/>
        </p:nvSpPr>
        <p:spPr>
          <a:xfrm>
            <a:off x="7620120" y="228600"/>
            <a:ext cx="914400" cy="914400"/>
          </a:xfrm>
          <a:prstGeom prst="pie">
            <a:avLst/>
          </a:prstGeom>
          <a:solidFill>
            <a:srgbClr val="000000"/>
          </a:solidFill>
          <a:ln w="25560">
            <a:solidFill>
              <a:srgbClr val="0bd0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Gwiazda 5-ramienna 4"/>
          <p:cNvSpPr/>
          <p:nvPr/>
        </p:nvSpPr>
        <p:spPr>
          <a:xfrm>
            <a:off x="1600200" y="228600"/>
            <a:ext cx="685800" cy="685800"/>
          </a:xfrm>
          <a:prstGeom prst="pie">
            <a:avLst/>
          </a:prstGeom>
          <a:solidFill>
            <a:srgbClr val="04617b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24421a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Gwiazda 5-ramienna 5"/>
          <p:cNvSpPr/>
          <p:nvPr/>
        </p:nvSpPr>
        <p:spPr>
          <a:xfrm>
            <a:off x="228600" y="685800"/>
            <a:ext cx="914400" cy="914400"/>
          </a:xfrm>
          <a:prstGeom prst="pie">
            <a:avLst/>
          </a:prstGeom>
          <a:solidFill>
            <a:srgbClr val="000000"/>
          </a:solidFill>
          <a:ln w="25560">
            <a:solidFill>
              <a:srgbClr val="0bd0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Gwiazda 5-ramienna 6"/>
          <p:cNvSpPr/>
          <p:nvPr/>
        </p:nvSpPr>
        <p:spPr>
          <a:xfrm>
            <a:off x="6629400" y="380880"/>
            <a:ext cx="914400" cy="914400"/>
          </a:xfrm>
          <a:prstGeom prst="pie">
            <a:avLst/>
          </a:prstGeom>
          <a:solidFill>
            <a:srgbClr val="04617b"/>
          </a:solidFill>
          <a:ln w="25560">
            <a:solidFill>
              <a:srgbClr val="0bd0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Rectangle 2"/>
          <p:cNvGrpSpPr/>
          <p:nvPr/>
        </p:nvGrpSpPr>
        <p:grpSpPr>
          <a:xfrm>
            <a:off x="-6480" y="-6480"/>
            <a:ext cx="9156960" cy="1433520"/>
            <a:chOff x="-6480" y="-6480"/>
            <a:chExt cx="9156960" cy="1433520"/>
          </a:xfrm>
        </p:grpSpPr>
        <p:pic>
          <p:nvPicPr>
            <p:cNvPr id="222" name="Rectangle 2" descr=""/>
            <p:cNvPicPr/>
            <p:nvPr/>
          </p:nvPicPr>
          <p:blipFill>
            <a:blip r:embed="rId1"/>
            <a:stretch/>
          </p:blipFill>
          <p:spPr>
            <a:xfrm>
              <a:off x="-6480" y="-6480"/>
              <a:ext cx="9156960" cy="14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0" y="0"/>
              <a:ext cx="9144000" cy="14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0e64b2"/>
                  </a:solidFill>
                  <a:latin typeface="Calibri"/>
                </a:rPr>
                <a:t>Planet Measurements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Rectangle 3"/>
          <p:cNvGrpSpPr/>
          <p:nvPr/>
        </p:nvGrpSpPr>
        <p:grpSpPr>
          <a:xfrm>
            <a:off x="-6480" y="1292400"/>
            <a:ext cx="9156960" cy="5572080"/>
            <a:chOff x="-6480" y="1292400"/>
            <a:chExt cx="9156960" cy="5572080"/>
          </a:xfrm>
        </p:grpSpPr>
        <p:pic>
          <p:nvPicPr>
            <p:cNvPr id="225" name="Rectangle 3" descr=""/>
            <p:cNvPicPr/>
            <p:nvPr/>
          </p:nvPicPr>
          <p:blipFill>
            <a:blip r:embed="rId2"/>
            <a:stretch/>
          </p:blipFill>
          <p:spPr>
            <a:xfrm>
              <a:off x="-6480" y="1292400"/>
              <a:ext cx="9156960" cy="557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0" y="1295280"/>
              <a:ext cx="914400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649"/>
                </a:spcBef>
                <a:buClr>
                  <a:srgbClr val="0bd0d9"/>
                </a:buClr>
                <a:buSzPct val="9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Calibri"/>
                </a:rPr>
                <a:t>Include all measurements from your data worksheet.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49"/>
                </a:spcBef>
                <a:buClr>
                  <a:srgbClr val="0bd0d9"/>
                </a:buClr>
                <a:buSzPct val="9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Calibri"/>
                </a:rPr>
                <a:t>mass:1,27e22 kg.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49"/>
                </a:spcBef>
                <a:buClr>
                  <a:srgbClr val="0bd0d9"/>
                </a:buClr>
                <a:buSzPct val="9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Calibri"/>
                </a:rPr>
                <a:t>Volume:6,390,000,000 km3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49"/>
                </a:spcBef>
                <a:buClr>
                  <a:srgbClr val="0bd0d9"/>
                </a:buClr>
                <a:buSzPct val="95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Calibri"/>
                </a:rPr>
                <a:t>Insert a photo (with a caption) of your planet.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Błyskawica 5"/>
          <p:cNvSpPr/>
          <p:nvPr/>
        </p:nvSpPr>
        <p:spPr>
          <a:xfrm rot="1597800">
            <a:off x="367920" y="159840"/>
            <a:ext cx="914400" cy="838440"/>
          </a:xfrm>
          <a:prstGeom prst="lightningBol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Błyskawica 6"/>
          <p:cNvSpPr/>
          <p:nvPr/>
        </p:nvSpPr>
        <p:spPr>
          <a:xfrm rot="2228400">
            <a:off x="7695720" y="152280"/>
            <a:ext cx="914400" cy="914400"/>
          </a:xfrm>
          <a:prstGeom prst="lightningBol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6" descr="http://www.cookplanetarium.us/pics/pluto.jpg"/>
          <p:cNvPicPr/>
          <p:nvPr/>
        </p:nvPicPr>
        <p:blipFill>
          <a:blip r:embed="rId3"/>
          <a:stretch/>
        </p:blipFill>
        <p:spPr>
          <a:xfrm>
            <a:off x="3429000" y="3295800"/>
            <a:ext cx="3733920" cy="3333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omposition and Atmospher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scribe the core and surface composition of your plane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tmosphere : methane, nitroge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urface Condi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st surface temperatures – </a:t>
            </a: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-235 and -210 C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scribe the details about weather found on your planet.  If you are doing Jupiter or Neptune, this is where you should show and tell about the large spot.noting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o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ow many moons does your planet have?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st moon names. Char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f your planet has no moons, add more pictures and captions instea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6" name="Picture 9" descr="Charon"/>
          <p:cNvPicPr/>
          <p:nvPr/>
        </p:nvPicPr>
        <p:blipFill>
          <a:blip r:embed="rId1"/>
          <a:stretch/>
        </p:blipFill>
        <p:spPr>
          <a:xfrm rot="12733800">
            <a:off x="4327560" y="4175280"/>
            <a:ext cx="1123920" cy="1123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Put the name of the most interesting moon here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0880" y="19047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ll us about this interesting moon. Charo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clude a photo (with a caption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ing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vide information about the rings surrounding your planet. nor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clude a photo (with a caption) of the rings. not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f your planet does not have rings, add more photos and descriptive caption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31T15:39:58Z</dcterms:created>
  <dc:creator>Sean Gardinier</dc:creator>
  <dc:description/>
  <dc:language>en-US</dc:language>
  <cp:lastModifiedBy>nauczyciel006n</cp:lastModifiedBy>
  <dcterms:modified xsi:type="dcterms:W3CDTF">2009-01-26T12:14:48Z</dcterms:modified>
  <cp:revision>34</cp:revision>
  <dc:subject/>
  <dc:title>Name of Planet</dc:title>
</cp:coreProperties>
</file>